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B422-A278-4F5E-8442-749F1ACB4C0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F23B-68D9-4E54-8607-F4695A7C33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40AA-9CE5-4EE1-A6AC-751B45DD93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00BD-5C7D-4153-A7DB-957DB2F70C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24FE-ED50-49D3-BB9A-DCB66887C9C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9C51-28D0-42CD-84A6-C566F47272D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D3E9-5CF5-4B60-A612-5F1491B31D9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0C0C-62E0-4D5D-AACC-59D3681A001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FE76-67EC-4579-88BF-0A7DE9ED86F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5211-E8E8-48B2-A955-18535D4EE58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6D5B-93AF-488A-AECC-98AD2DB267D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C272-7737-4AB0-98D8-DEEE628E8F6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D7E5-D72C-4DA6-A428-B2398C9B98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9DE1-7A63-4624-828A-3F989787D14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422F-D202-48DF-98E3-AB95E650A0B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786E2-0C5C-4C5B-8170-18EDC7348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B8AA0-C1D6-4EEF-B5C9-BFB8ADEB3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7F4AC-F7B7-46AA-98BE-CEBD79AE8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655FC-38D6-42E8-BEAD-A17D334F2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D5CF8-24EC-4D59-9627-4903B5C0B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D648A-9889-4349-9F42-D4E68BB43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B37B7-6AFE-443F-8830-BF5BBB02F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20770-5F62-4662-A1E6-C782BDACE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3DC14-626D-4C88-A188-58A3E34A0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0D4D7-D135-4955-B198-98F87A3AF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9715-F96C-495A-A500-356C47C91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E1DB6-DF16-4FF1-8024-7ECB6B290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2532-A406-43CF-9A53-8B644A5E8BF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4640"/>
            <a:ext cx="5543640" cy="609300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ommunicate by Twitte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9T20:48:07Z</dcterms:modified>
  <cp:revision>27</cp:revision>
  <dc:subject/>
  <dc:title>People who change the world</dc:title>
</cp:coreProperties>
</file>